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D89-3562-45C9-A6AC-147B6A19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334-8060-4F28-A2AD-69C47D9A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4A98C-97B8-477B-8E8F-E5CEDBE4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4DBB4-1285-491E-8A8A-70D7130E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B0A4B-E2B6-48D3-96F7-C959929C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0A42A-39E5-4CF8-9B42-5B59DCF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16B2F-3492-42B0-9DB6-D067EF97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06B51-FF65-449B-9F6A-17373BB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CFF39-1E2F-4C7D-A310-CDF9BEDC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3EBF9-781C-4310-82A3-CDAC14E7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622E7-DCBD-4BA4-9D96-952E8D6B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157E8-B8E1-4B83-BEA0-D8E48F7B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2C6-376B-4088-AD7B-AC74EDD1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241EE-0C85-47A6-895A-7689B4B3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EAD88-A79C-480D-925A-52C810EF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D2E3D-26F4-44CB-8613-722F2282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4A28F-2F39-4D53-9287-A103F9F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47708-07DC-4792-BDDB-D62C4CFC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CF2F5-5377-4D9B-9DC7-4C7EF76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5CA0C-54C6-4C2C-9E5E-88E7678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46604-22F4-4400-98FF-3D04127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E5790-CBFB-4921-B932-F1AE7499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11B3A-3FA8-4769-8774-431AB249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ACF-5202-4A06-84B9-DB25B059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6ADFE-7470-4234-9B2C-CE5624D6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966A8-E1FA-4BF2-A3CE-C337972A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7F3D3-22B4-4411-B5E9-6285C429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148D7-26BC-4C9D-A22E-76BF802F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6DE30-B10E-4717-894A-058582CF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307C3-FF36-49CF-A73F-C6992FAA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B226F-F5FC-434C-A231-5162276A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64933-78E9-499B-9E2D-7B3CD48C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3910D-3768-41C8-BB60-38AF934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5A5DA-1BE9-4446-9051-DC0A59E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1E67-8079-44B6-A081-C0FDD19D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9F214-6C42-4605-8385-592380B8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3C8BA-9ACC-453C-9C44-910356CE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1902B-EECB-4ADA-85D4-16B05944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CDFB8-3668-4630-99CB-3E2C5001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FABB1-D8EC-400A-A3F4-835FAF85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EFF7F-78F5-449E-A593-23AD6323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F67C8-AA0F-487E-A7BA-D9ABEC52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3C6A9-8966-41D3-BF17-43E0CC0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AF5D3-6153-443D-90C5-76F8B6DF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A5AFC-FD36-4F24-B5D3-0721F08E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F246-A1D3-4C21-8E85-EED3F2C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D79F6-D51B-463A-9EC7-D95A95BF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D4E12-45E2-4C18-A7E2-D17C533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8A86C-FB02-4A46-862E-5FB6A01B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247C5-3F01-49B2-8E7C-08D90EFC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6A75C-EFF2-4894-8E12-D1DE9F08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E1E1C-BE34-4039-A161-825CBF79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EDBB9-5477-4F3E-BAE7-3B44A33B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178DE-5235-42FB-BF65-4767596A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FD79C-5D7B-4122-A1E7-8954079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896F5-2FC8-4CBB-962A-5063653F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A052-B0DA-4844-A3C5-D9A0EFCD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1D4EF-7ED5-49B6-8004-8CA66BA9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BDC12-905F-4AB6-A463-6DCDFAB5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EEE6D-0DC2-4FD2-A682-D82EBBB0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13895-24B6-4490-91B6-AB7FB4E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E4CD8-479D-453D-9CE0-2B71C8E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90515-047D-4111-B6AD-D847812F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B5A61-1975-49B8-B2DD-59AE97CB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66D8C-4EE6-42E6-910D-47FA019F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9831A-29F4-47C3-B636-BE165D01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1D9E4-C7CF-4703-8C7C-B51DB1E0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9178-F9BB-402A-A96D-E776C534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857D3-EF0B-4A08-9AD4-F9B4E322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621FF-506E-4354-B877-5B0DF8E5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2ADC9-10DE-4D22-9898-AA341CE7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FD3B5-9328-48C8-9997-943FAAC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35BA8-9C77-466A-86FF-771D3D2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C1DF1-1157-45EC-A94A-A4952F3E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3C8EF-120E-4491-9164-EFD8D0A4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9CEC9-E7A4-4B94-97BD-AEE94757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CB2CF-1AC6-4A65-BCC0-35569DF8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E3806E-32C9-40A4-8C37-690C0C90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92C6-C5E5-456A-B7E7-CC997667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AB44F-FFC0-41F0-A17A-09233C3F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3A637-6D33-48BA-90C3-ECF7383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F03DA-F7CA-406A-968A-56653B79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F46A6-185C-4DDF-927D-C8B83D02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7BF15-FDA6-45FA-A654-CB395A20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6B6C9-66B3-4EA5-B2CB-D1496F2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72D80-A6ED-429A-A913-DE2E30D3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A9051-D8B6-4D41-92DF-602A8F5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23C9A-EE76-4041-9655-E3C08948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02177-16F1-452F-A7C1-62389C88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FBA2-9E19-45FF-BE2D-BD907539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FA6E3-8B27-4A2B-8B18-71355948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ED5F0-65F1-4EF6-801F-477C302B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568BE-1703-4F86-A536-A246FFCE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4FC34D-47E8-4B5B-BB41-0BA9CE1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6CD75-D219-4A02-8972-D0CDDD33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77C82-9DDC-42B1-8AE0-BE08CE7A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E04D5-2775-4914-8380-BBB14919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A5463-5AA1-46DC-94EE-D6E7D0D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B54AB-28FD-49D3-95A5-4C4F7B58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8C267-1F22-4D90-BC96-D11C9956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0D2-1ACB-4FD6-8D33-13E75186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F9E1F9-D5C6-4210-97F1-A34B7448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B6FFA-8A0B-427B-BC67-590D5F06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D0643-34A9-46BA-9074-9E606D33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F6DAB-F692-4C53-B5BB-F975EF26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7EFF4-8ABF-41AC-A8A0-609ED395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0567E-A355-4841-AB72-485A3FCE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D66EA-47F6-4E73-B58B-6D4A2AB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95F5B-C750-4B8F-ABA1-74B4E76C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F822A-3714-4209-AC50-4266BF07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E38AA-F5F2-4894-B38E-E74532CF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35B-79A9-4CEF-B42E-9107EC8B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727E-C656-46FF-801F-49AF204D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29037-7B12-495C-8997-2B9AE2B9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4D17C-406F-4355-8521-E9348D9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45FAD-88C6-4B1A-8B31-0EA82636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F23C1-AD52-40DA-A92D-33A7B3CE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907A7-0759-4A5E-A908-472AC149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526DF-2E3E-4839-8FF7-DC1C9CB1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CB1FA-EA21-46F1-8E30-60D8B36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A3F12-48A1-4022-819F-56A932A4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4F5E7-D18B-4701-BB27-5E180F72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492A7-3D39-42B7-ADA7-6AFBDB3F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D600-8A74-454F-9D65-D1C1558F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7B344-300D-49A5-9320-64D9DE56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75F45-F6F2-4655-A0A5-8314FA0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2DB922-0F89-45C3-8DB6-6831F2E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77ABA-F62C-4667-9A0C-65669D57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386A76-8B3A-40AD-A0C1-CBB108B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53FDF-36FF-4321-8947-086260BF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D926B1-FA88-49B0-B4FD-A5212DAF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E96F7-14E9-421D-8AA6-61037747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9C5A1-2832-46DD-9F42-3706E7A6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3B507D-E603-4908-86FB-EB94DF4C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4C4D-B993-4B79-9DB8-FABB0189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08A169-C758-48C1-8E14-A5E0DCD4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278D7-C68B-48DD-88D2-4FC73FA5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E9549-71DA-4253-987C-670736C5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29AF4-AD54-42BC-9633-E55F9DB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96A87-265F-4124-981F-A7D6C663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728702-3889-49EC-BEF8-FB748D0E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5D9AC0-FF1B-4414-AA7D-91916834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89F80-D3BE-4CB6-A5B1-4AC13B65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EC064-EEEE-48CF-823E-799F0811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BEFF0-2903-4EAC-ADBE-11EB197C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9123-B684-47BC-8932-50ADA337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44F87-56CD-4BB6-80D9-A4708DFF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83779-0B57-4680-B5E3-02B9B67E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C7F96-C79A-4C07-8E69-AD10C822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C45310-E446-4C63-9C5D-F92A181F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F82B6-C741-4322-886B-DEEA93D3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405C6A-1439-4E29-9A1F-95C98DB6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D6D34D-214D-485D-B849-FE277D12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4224F-5834-416F-B613-0AD38A76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68CD0-4B38-440C-B005-7CA6900E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DD95D-AEDD-43FC-95C6-E17787BD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019-2623-4BA7-8746-472B41CE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3FD7EE-C251-4FF3-AB56-43E0F7BA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5236B8-CB54-432A-ADEC-D2CE6C0D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58679-C46D-4EA7-8E5B-AB4B027E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EEC3A-5A8E-4731-A09E-9714870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456AE2-8F09-4956-A8C3-66551ABC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22AD5-D269-48DF-8F3B-78498CCB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8C7997-F9CE-4738-A5CE-81F8CC40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8FE26-BE00-46EF-9995-1088ADC9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5FF52-F895-4BCC-98E0-364DF19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2F4C0-F0DF-4B19-A676-1892ACAF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3252-4135-4ACC-8EC5-FB5F7254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85BCF0-1388-4F90-88F3-C81B19AA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159572-990C-4310-A860-44A805A9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E032CE-6B38-479C-939F-52C74A18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AEDF1F-6A56-47FE-9CB0-556C171F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43D96E-2FE0-4799-A54F-70C82544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DACAE-723B-40D2-BACD-18B3A068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ABDD0-C066-42E7-AE1D-FF70BBFC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77F85-C3B4-48E9-B6B5-174A6364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6EB0F1-F8B5-4488-8B28-C000873E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997966-1E0E-475F-997F-463D6C55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7A0B-60B3-4DC1-AE95-CB1DB582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9DA98-BB33-400F-B371-FA08E237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C25D27-DC3D-4086-9273-38A823E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55A72B-9349-4978-89C5-3ABEE5D6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6C745E-D3C3-4EA2-A796-F4122DC3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2F890D-E46A-42BC-94CE-6B38354F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8E2709-9657-4085-8D30-697DE3FA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8B6BF0-0796-4C6A-BDD7-B1AD492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3D7BF8-0CED-4073-B3FF-7D2054A3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9474D7-F9DC-462F-A090-D720D1A9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38562-1C65-4893-9E50-1B43401B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A142-7F9F-4C08-A724-1E94C15C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7E7091-9D47-402A-AAB0-78D23F20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AC2AE2-1503-4B66-834D-0B20F93D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001647-545E-4690-9E9B-4D1EE512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990B82-A70E-4F03-9E6B-2E6399E4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26E62B-9D6B-44BB-B1EE-5BF0A031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9E911-E10E-4982-958A-F7F307B3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C13DF-93D8-4864-BE15-C9A09E15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4CE2FE-1455-4A09-9B30-79D2BAD6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07DA00-2B7A-4D0F-89D3-16327D24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E66ABF-B598-47FB-9FA9-C5060ECB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3F31-AB03-4E84-834A-957C087B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BD2A5B-6841-452E-B105-91ED860B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47C39C-1B7F-43B8-B697-6691133B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384FF6-9064-4694-902F-431F4F70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9EF092-7BC2-40B4-929A-BC0D475C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9FA241-1125-43B3-82B9-014655C3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2328D9-4B5C-4F6E-9824-5973F49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BC66E9-4661-4085-92A6-82FD6339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2683E2-7D6B-4DF2-94F5-9F5BF761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3CD892-A807-4EFB-972D-B2C9973E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664A-0BC7-4752-A553-9626112F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17A-99FB-4699-9F2B-5A96CDFC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018F-FFE6-4400-84BA-BF1F270E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C425-6B60-4CAC-BE64-1CC6919D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1967-C80C-42EB-A648-88CCBFF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2646-5A19-47FC-8414-3D2578C8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BC56-128C-4F53-A791-567B4E55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3192-47E7-4A5C-9B30-29F7AC08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A284-FF40-49C8-B223-70448F2B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2EACA-D55C-413E-9140-DA741981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ADA8D-A5AA-4288-8D8C-69D8AD20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C04D9-E312-4053-8924-DAA39FA1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3B4-7BFF-4CFD-B171-B4A2C616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3C592-A558-439D-B664-B16EA02B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565C-26D6-4DE9-9176-08F54722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87F0-9984-4666-8E4F-EA608DF0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B1E4-3252-4CD8-9190-F3F07ED1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D2E45-EB82-46E4-9934-078E1D7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A92C-C149-4243-B510-68E320E1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928E-AC45-4134-897C-C4BB36F2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DBC61-4920-482E-8419-309C4D42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4C5E-EE5D-4A8A-A74F-DCF24709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300D2-1D2E-46EA-8088-890EB0A8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AA1-F55F-49EC-AF20-523F59E5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0AD6-D72B-4556-BF5A-1C05D97C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9EF7C-0D1F-4225-B5FF-F6B5EAD5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18E9-8149-462D-A6CA-74E2C65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F589-ACE7-47FD-A9C9-52137FA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D805D-A4B9-4FAE-B87E-437F3DDE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850D2-164E-4EB5-A7A4-9BD3419D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4B04E-98DC-4C13-8D21-0223CC80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0BAD4-DBDF-4F72-9234-21D1CDAA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2690F-F54D-4CA1-8BAB-0D72BC42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6347-F27F-4DDF-9578-3DE0A509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28C-3F58-466A-92E7-8BE45683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E866D-F978-4792-B272-C8463A2F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35D2-B1CB-4729-B2DB-1307F7C8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28995-6DF4-4D2C-AF8D-4EFCDDCA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72B6F-0B9A-4BF0-9670-BAD6F457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B85FB-5B60-4F98-881E-3CCBAC4C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8D31-CA43-44B3-AED9-734F8ACB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D7BE-0662-4D45-9708-6DD78C50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C0809-9D2D-45B8-B427-94667039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FE8DA-7837-4838-8A13-F25F953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AA0E-E4E8-40DB-9D08-52D1DBE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092-4BCB-4B74-A94E-5C205A72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3A0A7-8347-4622-8DD9-B4E74F8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1882A-EE22-4A2E-B8BD-69CCE78B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2CFC-D75A-433F-AE67-03C7FAFF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0069B-1828-47B1-9D8D-7D7AEDAA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03006-DC1E-4EC5-982F-31575871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3D40D-2830-4A2F-BB5C-E52B7314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5F6C9-8233-4589-8886-40445DE9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AD3E3-CC8A-4CC9-8964-D40749F7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62BBC-11FA-48EB-AAF3-53B18F72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646E6-BC55-471F-93E6-7BDA4992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45D-06BC-44F6-9BFB-1865F46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2BFE7-82E0-4696-A09E-1995FFC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0ABBD-673A-4CC5-BAB7-1D92E82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B29DB-3228-478E-9AC8-79C96CD9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28569-490B-4C13-83A3-A6C1D9A3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5AD3E-66CE-4AD8-B0CF-D4207AB6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FADFE-5DC9-44CF-87A9-3D7628E6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CC193-9E46-47C7-997F-B0008770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1B71-AF13-4A04-B0B1-9B554E63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842F9-8964-490C-892A-FA9AECDD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9CBA4-66F6-4ADF-9026-2649A2E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B22-1646-4EC1-9C79-7F92348F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C5CC9-A528-4FE4-9E70-0AC3CDDD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A2828-CCCD-48B8-820B-1DCC86C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01097-7597-4716-A44A-BB27FB9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9A4FB-CC45-4120-8CD1-7632CBE1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33BAA-65D4-4B6A-A8DC-0F29DCB5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A40D3-6B23-44DA-98AF-4F1D1BA3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EFA56-A90F-48B1-9397-BF33DFAA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84B4A-82F2-4E32-9DB4-A8E67630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60C43-C325-4027-8720-6F058127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1670D-3447-400C-9217-A03B3FC6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662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662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662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662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662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663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663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1730-F881-4BFD-A811-AD8D1CC6B4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3B3-A750-4662-814C-C2ACFC1CFA8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FDF7-BC78-472A-A06F-46C918DEC8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E8C0-F184-4E0B-B9FD-1D7A17D4CEF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F1C2-1237-41A9-94BB-CC693865953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3174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55" name="椭圆 3174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椭圆 3174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椭圆 3174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椭圆 3174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椭圆 3175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椭圆 3175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3ECE-18FF-4EFD-AE65-530E2EB1C2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4897-D716-4577-AA6F-1E8E00A1565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EF1C-F186-49D3-B2DA-0915FDBBC5F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A135-E4FE-4E3B-BCA4-DEC74C965DF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A1C0-A649-427D-8B56-AB9332104D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4BE4-6B71-44D8-BDC1-77F19D6F3C0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072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3072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0" name="椭圆 3072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072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072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072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072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91DF-1B36-42DC-90DB-3B2ACFA870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A721-94BD-4E13-9D05-E40C22A1545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7F22-846E-4604-87AA-BBD99D93D69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9750-5615-4496-B0C0-3ADAC16B82A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5270-0486-4E56-953F-C7BE0E0BFE2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0ABE-3C5B-4463-BB05-05C5F8397F0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2764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7" name="椭圆 2765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765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765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765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1" name="椭圆 2765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" name="椭圆 2765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34FA-5480-4963-BD64-1FC22215B61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27B3-ADA0-4C7B-B073-834AA25E3F4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8CB1-EDC4-4131-9DE0-38762BF406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52C4-AD92-4720-A3DD-4FDC1CCA2CF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0792-0A8D-447A-9ADC-82414DBA0E5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DC41-175D-46BE-A090-A53ACDCD6F5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5B4D-8321-4AF4-8B63-90483E394CE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</a:rPr>
              <a:t>暮江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矩形 4100"/>
          <p:cNvSpPr txBox="1"/>
          <p:nvPr/>
        </p:nvSpPr>
        <p:spPr>
          <a:xfrm>
            <a:off x="2971800" y="380880"/>
            <a:ext cx="2666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暮江吟</a:t>
            </a:r>
            <a:endParaRPr b="0" i="1" lang="en-US" sz="48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、流利地朗读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诗意体会古诗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古诗并尝试背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读诗。要求：声音洪亮，吐字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桌赛读，注意停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不理解的字词或诗句设法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问同桌、查工具书、问老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8195"/>
          <p:cNvSpPr txBox="1"/>
          <p:nvPr/>
        </p:nvSpPr>
        <p:spPr>
          <a:xfrm>
            <a:off x="609480" y="4572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自学方法</a:t>
            </a:r>
            <a:endParaRPr b="0" i="1" lang="en-US" sz="6000" spc="-1" strike="noStrike" u="sng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暮江吟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居易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道残阳铺水中，                半江瑟瑟半江红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可怜九月初三夜，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露似真珠月似弓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量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古诗并划分节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描写了哪些景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以下词意试着说说诗句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：傍晚       吟：歌咏            残阳：夕阳。 铺：铺展。    瑟瑟：形容江水的碧绿。    可怜：可爱。    似：好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助学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这首诗描绘了傍晚到夜晚深秋江边的景色，描绘了残阳铺水中，江水半江瑟瑟半江红，初三夜可怜，露似珍珠月似弓等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本诗运用了比喻的手法，把露珠比作珍珠，把月亮比作弓，创造出和谐宁静的意境。本诗表达了作者对大自然的喜悦热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用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写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17411"/>
          <p:cNvSpPr/>
          <p:nvPr/>
        </p:nvSpPr>
        <p:spPr>
          <a:xfrm flipV="1">
            <a:off x="2514600" y="3276360"/>
            <a:ext cx="3581280" cy="75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7" name="直接连接符 17412"/>
          <p:cNvSpPr/>
          <p:nvPr/>
        </p:nvSpPr>
        <p:spPr>
          <a:xfrm>
            <a:off x="2666880" y="4114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8" name="直接连接符 17413"/>
          <p:cNvSpPr/>
          <p:nvPr/>
        </p:nvSpPr>
        <p:spPr>
          <a:xfrm>
            <a:off x="2590920" y="4114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9" name="直接连接符 17414"/>
          <p:cNvSpPr/>
          <p:nvPr/>
        </p:nvSpPr>
        <p:spPr>
          <a:xfrm flipV="1">
            <a:off x="2590920" y="4876560"/>
            <a:ext cx="3733560" cy="75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0" name="直接连接符 17415"/>
          <p:cNvSpPr/>
          <p:nvPr/>
        </p:nvSpPr>
        <p:spPr>
          <a:xfrm flipV="1">
            <a:off x="2590920" y="5638680"/>
            <a:ext cx="388620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测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者是（      ）代诗人（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在这首诗中，诗人 选取（        ）西落到（          ）东升时江上的景色，用生动形象的描写来表达自己（        ）的心情。题目的意思是（              ）。这首诗运用了（           ）的手法，把（           ）比作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；把（          ）比作（       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1:41Z</dcterms:created>
  <dc:creator/>
  <dc:description/>
  <dc:language>en-US</dc:language>
  <cp:lastModifiedBy>万润仪器贸易公司</cp:lastModifiedBy>
  <dcterms:modified xsi:type="dcterms:W3CDTF">2020-08-24T03:31:5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